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1C5-DC8A-4ECB-BEF7-2BB2D1FF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774-F11A-45B2-A533-56FD0C9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CAC-0AB0-4BA8-8A68-50EEFA55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3F4-E513-4EE3-861F-B2581EE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CA02-67ED-403D-B8F9-8D481CAC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D57F-1258-4425-B07D-974EC84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833-AE86-4C43-B404-33176AF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23E-632E-4122-A784-01B99F3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70F-0946-4914-9F85-88F21F89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32C-7C51-44D3-8876-69C0F90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E74-D358-4048-9BC0-7C09348E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720-7274-457F-AE81-9B47C432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C927-E201-4CFC-BA40-1516F9C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453C-8577-43F9-B462-88950C2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F8C-7FA7-4517-83BB-5AB34342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6A94-209F-414A-83F5-2786121C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9CD-7F7E-46A3-8D5D-14424551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5BC0-6A03-497A-9039-F3717CD9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5D02-C196-49A4-ACCD-600E3F0F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67E7-09DB-4826-9F66-EC2A4CC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59AC-1EB6-42A9-975D-9EC7928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83B3-2A41-459D-8F6C-A79004C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65-E59D-4DEF-99AD-8C9EE2E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94C3-0A66-42AC-9518-BF48450A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6C97-0F52-4475-8370-1B6EC59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94DA-2234-4506-A853-23EC9C1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FAC4-5428-4E25-AC6E-E555EAE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90BF-04FF-49F7-ABC7-A67C4245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897A-692E-424D-ABA9-5C9E3009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2248-5834-452A-A4EB-130A7803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5651-EB32-4C41-A3AB-57459013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3A15-DFF8-45CA-9B7F-CBBD30A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57B5-DE3E-4AFF-801C-C34E15B5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F6D-C0E1-4ADE-9270-40324B9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B379-72A9-4685-9032-4E19B476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48597-29AA-425C-BCB8-4329E3D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02D5-144F-4B80-ACBD-AEEA8CA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232F-4F64-4B24-BC62-53E41AE7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09E3-5E52-4F09-BD5A-8EE11F3B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09E2-0C8B-4F53-A99C-3006E46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9413-0FD3-485E-B9EA-A4034B6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5E8F-9E5F-4F83-BD39-25CB0DA7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9D62-9F25-46CF-8138-349C89D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3EA0-43F1-46B2-86BD-F24C6536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B0E-478C-4D64-B55D-34890B7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83D8-86C1-486A-9260-69678F08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C66E-5AE8-4767-9A67-8D80C46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3A0C-BCC9-4C90-BC09-7D6FFBA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7712-78FD-42C2-BFF1-4B85206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E7DF6-BF59-4A91-9AC1-90F8A348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EA84-A178-4620-AD90-A67BE6D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3C268-0CDA-4CF3-B1AF-7D0B01A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DAAA-07DD-4635-BC30-0353F47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8E27C-1A98-4C59-82AC-E2C91F9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4168-A1F0-4BFE-8380-0E5F30F8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846-59BD-4CF0-83E2-B7C8A97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5C61-A934-42E3-8D0C-F2F6BFE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5087-759A-4E9E-ADAC-567BF3B3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5B12-87EA-4F9F-AF07-A0D100C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4A0A-4043-4866-8825-6486EBE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5A1F8-1AD7-4019-B8FF-0D9612A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5653-0B80-4181-A179-9F9F94CB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84366-854E-4433-BD03-CAA4DE0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8E5B-879A-4AEE-AD6E-8F4871C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DEC3-1752-4316-892B-4EC02FB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F0435-8B54-4346-BF62-50E4BB4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82A-AA41-4148-BD62-766BA89C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57E5-1131-4364-97F5-883BE9DD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11C5-1C0D-4522-A189-75366AAA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F411-E619-49B8-B5BC-1EAE4B6A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93A-686C-4B5B-A002-5EFDDC0C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ADF-2138-4AFD-AD70-BC2AF87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D558-481F-44BA-B182-5DC9CCE9BC4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E7BF-CF9C-49A3-82AC-5992F1FEA62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4AC-AFDE-4375-9DA5-F6C8330F6D8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ED5B-C084-4911-BD8F-9A0419D39781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8B0B-F28F-495D-8C46-A5F31339981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298280" y="6353640"/>
            <a:ext cx="1347480" cy="323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320-2A65-4707-BCAE-0D15992DBFC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96920"/>
            <a:ext cx="8364600" cy="1432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ПОДГОТОВКА ДОУ К УЧАСТИЮ В КОНКУРСЕ НА «ЛУЧШЕЕ ОУ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4920" y="515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7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.09.2012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УПРИЯНОВА Г.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400800" y="31240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СТРУМЕН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амооценка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Swot-analiz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документов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результатов и достижений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сильных и слабых сторон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тоды изучения общественного мнения, удовлетворенности участников образовательного процесс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5940360" y="2400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8229600" y="33526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772400" y="38862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8435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ЦЕЛЬ ПРОВЕДЕНИЯ САМООЦЕНК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30120" y="1700280"/>
            <a:ext cx="779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олучить представление о результатах и процессах в образовательном учреждении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Определить точки приложения усилий коллектива (меры по улучшению ситуации)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АМООЦЕНКА В Д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даптированная школьная модель самооценки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амооценка по Европейской модели качеств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лидерство, персонал, политика и стратегия, партнерство и ресурсы, процессы, результаты, результаты потребителей,  результаты общества и результаты  основной деятельност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оценка на основе анализа сильных и слабых сторон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щенная методика самооцен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ШКОЛЬНАЯ МОДЕЛЬ САМООЦЕН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1 вопросов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нутри каждого вопроса – 4 част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Оценка в баллах от 1 до 4 (система показателей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очему Вы так считаете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аиболее улучшилос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еобходимо улучшать и какие действия для этого надо предпринят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380360" y="22050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0120" y="1052280"/>
            <a:ext cx="7792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Выводы необходимо доказательно обоснова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Фокус описания и оценивания – как это влияет на результаты ученик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раткость (объем 10 стр.; не включать очевидно доступные данные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кала самооценки от 1 (очень мало) до 4 (превосходно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СПРАВКА-ИНФОРМ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981000"/>
            <a:ext cx="8077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звание ОУ, адрес и особен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иссия, цели, приоритеты и механизмы их реализаци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Характеристика образовательной среды ОУ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неджмент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фессионализм педколлектива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заимодействие ОУ с соцпартнерами, родителями, органами власти, СМ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ы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курентные преимущества (2-3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национальный соста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ложный социальный контекст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ради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онтингент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состава семей, окруж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отоматериалы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чет по самооцен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НАЗВАНИЕ ОУ, АДРЕС, ОСОБ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780000" y="32846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752120"/>
            <a:ext cx="3200400" cy="371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ные направления в деятель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чень программ, проектов, планов, обеспечивающих их реализацию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1700280"/>
            <a:ext cx="3200400" cy="37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Выписка из Устава, Программа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ект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грамм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лан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Фотоматериал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Описание реализации программы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МИССИЯ, ЦЕЛИ, ПРИОРИТЕТЫ И МЕХАНИЗМ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90880" y="2492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разовательная модел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ципы деятельности и це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еспечение образовательног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43240" y="1904760"/>
            <a:ext cx="3871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ОМ, схема, рисунок; фрагмент ООП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кументы, фиксирующие (фрагмент Устава, ООП …, рабочая программа, программа воспитания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пользуемые технологии, характеристика условий обучения, данные о психологическом климате в ОУ, фотоматериал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РАЗОВАТЕЛЬНАЯ СРЕДА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34340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управл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ы в управл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елегирование полномочий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Эффективность управления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23920" y="1052280"/>
            <a:ext cx="4100760" cy="381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хема, регламент, «Положение об УС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вленческие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кументы наделяющие полномочиями в принятии управленческих решени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, данные опрос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НЕДЖМЕН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3809880" y="400536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ИЗ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Object 7" descr=""/>
          <p:cNvPicPr/>
          <p:nvPr/>
        </p:nvPicPr>
        <p:blipFill>
          <a:blip r:embed="rId1"/>
          <a:stretch/>
        </p:blipFill>
        <p:spPr>
          <a:xfrm>
            <a:off x="249120" y="0"/>
            <a:ext cx="346248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3764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8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5486400" y="21337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304920" y="3048120"/>
            <a:ext cx="4495680" cy="35049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 и эффек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О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сть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ффективность управления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на развитие МС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Практическая знач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/Качество през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ы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истема работы с кадра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адров (таблицы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ая политика, программа (план) развития кадр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чет о самооценке, динамика роста профессионализм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ФЕССИОНАЛИЗМ КОЛЛЕКТИ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56400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обенности взаимодейств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работы (приоритеты, формы …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руктур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говора, планы. Программы,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анные изучения отношения к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йтинг ОУ в МСО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убликации в СМИ, отзыв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70836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чебные достижения в разных сферах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сихическое, физическое состояние, здоровь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ровень толерантност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анные мониторинг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Таблицы, график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Фотоматериалы, грамоты, дипломы и т.п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3434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РИЛОЖЕНИЯ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. ПРОГРАММА РАЗВИТИЯ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ханизм целостного развития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правленческий инструментарий, направленный на разработку и реализации стратегических целей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Нормативная модель деятельности субъектов по переводу ОУ в новое качественное состоя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окумент, направленный на решение стратегических задач, социального заказа на образова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ЩИ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итерии оценки стратегических документов (А.М. Моисеев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исьмо ДО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етодические рекоменда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564000" y="155736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003640" y="2921040"/>
            <a:ext cx="792360" cy="28872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32" y="1400"/>
                </a:lnTo>
                <a:lnTo>
                  <a:pt x="1400" y="140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32" y="20200"/>
                </a:lnTo>
                <a:lnTo>
                  <a:pt x="57832" y="140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32" y="2020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32" h="21600">
                <a:moveTo>
                  <a:pt x="22609" y="3794"/>
                </a:moveTo>
                <a:lnTo>
                  <a:pt x="36622" y="10800"/>
                </a:lnTo>
                <a:lnTo>
                  <a:pt x="2260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724360" y="3860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РЕБОВАНИЯ К ПРОГРАММ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туаль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тодическая разработан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гностичность, реалистич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ациональность, направленность на достижение максимального результат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тролируемость, чувствительность к сбоям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Целос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ив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ПР ОТВЕЧАЕТ НА ТРИ ГЛАВНЫХ ВОПРОСА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его достигла наше ОУ сегодня, каковы его сильные и слабые стороны, достижения и проблемы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ой мы хотим видеть наше ОУ и его выпускников через два-три года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и как мы сделаем, чтобы ОУ успешно перешло от своего сегодняшнего состояния к желаемому будущему?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ГРАММА РАЗВИТИЯ – ПРОГРАММА ИЗМЕНЕ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мысл изменений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остижение нового, востребованного временем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условий для достижения нового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чение позиции ОУ в образовательном пространств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р.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2. ОПИСАНИЕ РЕАЛИЗАЦИИ ПРОГРАММЫ РАЗВИ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2240" y="1267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Целевая направленность программы и критерии успеха (планируемые целевые показател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езультаты (промежуточные, итоговые) и свидетельства их достиж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воды и перспектив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22240" y="1600200"/>
            <a:ext cx="3200400" cy="32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кспер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00520" y="1628280"/>
            <a:ext cx="3200400" cy="3181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ллектив Д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3492360" y="40464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Program Files\Common Files\Microsoft Shared\Clipart\cagcat50\PE01460_.wmf"/>
          <p:cNvPicPr/>
          <p:nvPr/>
        </p:nvPicPr>
        <p:blipFill>
          <a:blip r:embed="rId2"/>
          <a:stretch/>
        </p:blipFill>
        <p:spPr>
          <a:xfrm>
            <a:off x="533520" y="2514600"/>
            <a:ext cx="2790720" cy="3087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Program Files\Common Files\Microsoft Shared\Clipart\cagcat50\PE01561_.wmf"/>
          <p:cNvPicPr/>
          <p:nvPr/>
        </p:nvPicPr>
        <p:blipFill>
          <a:blip r:embed="rId3"/>
          <a:stretch/>
        </p:blipFill>
        <p:spPr>
          <a:xfrm>
            <a:off x="5334120" y="289548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1066680" y="5943600"/>
            <a:ext cx="358164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ожидает увиде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257800" y="5943600"/>
            <a:ext cx="358128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хотят показ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ратегическая цель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ыводы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2362320"/>
          <a:ext cx="861048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524240"/>
                <a:gridCol w="1828800"/>
                <a:gridCol w="2133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 /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иде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0640" y="3049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357120" y="990720"/>
          <a:ext cx="271296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990720"/>
                    <a:ext cx="271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95288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4"/>
          <a:srcRect l="0" t="17204" r="0" b="0"/>
          <a:stretch/>
        </p:blipFill>
        <p:spPr>
          <a:xfrm>
            <a:off x="304920" y="3886200"/>
            <a:ext cx="792144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533520" y="3429000"/>
            <a:ext cx="8229600" cy="3049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Verdana"/>
              </a:rPr>
              <a:t>Количество обучающихся (%),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не подтвердивших освоение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716000" y="1052280"/>
            <a:ext cx="397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Команда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15 минут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49228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 деятельности образовательного учрежд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нформирование о реализации программы развит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 CYR"/>
              </a:rPr>
              <a:t>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образовательных программ и достижений детей и педагогического коллекти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ЦЕНАР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едставление ОУ и команд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ши достижения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мы их достигли   (образовательные программы, технологии 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спективы (стратегия. Ее реализация и планы на будущее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ЧЕСТВО ПРЕЗЕНТ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ный дух образовательного учрежд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публичной презентаци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выступл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и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езентации представленным материалам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3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97180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 можно больше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ем старые заготов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цент на 1 вопросе (успех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быточность материалов, дублирование («корзина»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гнорирование правил, отсутствие согласова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е остается за кадром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64000" y="62064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2240" y="1099800"/>
            <a:ext cx="75218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Четкость, конкре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труктурированность (удобно работать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нструктивная целостность описания опыта (согласованность частей, обоснованность включения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Представленность материалов по всем позициям (критериям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Достаточность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168880" y="0"/>
            <a:ext cx="3975120" cy="1447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755640" y="5516640"/>
            <a:ext cx="8001000" cy="60948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ждение о том, что ОУ лучш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значит лучшее образовательное учреждение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ЛУЧШЕЕ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25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Лучше других справляется с заданием (имеет высокие результаты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озданы условия для самореализации субъектов (насыщенная среда для жизнедеятельност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мфортная обстановка, сотрудничеств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уководитель – лидер, высокий профуровень педколлектив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сокий рейтинг ОУ в МСО (имидж «лучшее ОУ»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Открытость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 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НКУРСНАЯ ДОКУМЕНТ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81000"/>
            <a:ext cx="8337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ая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на участие в конкурс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чёт о самооцен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ра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информа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 результатах и опыте работ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 приложения и дополнительные материалы к справке-информации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развит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О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исание реализации программы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материалы, раскрывающие инновационный опыт 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*п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ор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убликаций о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, ф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ограф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иаграммы, графики, сх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4303800" y="365040"/>
            <a:ext cx="558720" cy="549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1880" y="1100160"/>
            <a:ext cx="7782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аги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положения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бор материалов и их оценк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пределение дефицитов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дготовка конкурсной документаци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7724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6:43:21Z</dcterms:created>
  <dc:creator>Аноним</dc:creator>
  <dc:description/>
  <dc:language>en-US</dc:language>
  <cp:lastModifiedBy>Галина Валентиновна Куприянова</cp:lastModifiedBy>
  <dcterms:modified xsi:type="dcterms:W3CDTF">2014-09-17T07:36:53Z</dcterms:modified>
  <cp:revision>18</cp:revision>
  <dc:subject/>
  <dc:title>Подготовка ОУ к участию в конкурсе на «Лучшее ОУ» </dc:title>
</cp:coreProperties>
</file>